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C813-1448-41DA-86EC-E7AF43B97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2E14-2DC0-49D4-AD7D-49386ECC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BB9F7-74F7-4022-8725-85563DCA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0F455-D10F-4449-A524-5AC3DBCB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4E85A-1872-4E7A-9D0F-29F4D119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CAB73-6CB8-4580-BA93-805C4731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8E928-F8A0-43BB-A3A1-EB479286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11939-38A4-4510-A218-E0FE0DE6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41A3E-03AB-4329-BEF2-37B0DD4B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E78F5-D89F-4D4B-A142-687EEAEE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ED7F2-C36A-42E0-A8EB-E63192FCD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D081-A028-42E5-833A-628CA1DB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04E1-5590-4F61-B767-2EF72E2F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D2F5-D4D3-4840-BCEB-95888C84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D7E3-10B5-47A5-87F3-AA60886A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73E7-8C9E-4F13-BD88-584F7FA9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8DD4-BC60-4596-B60D-7DA12848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1D21-D718-478C-93F0-79A5FBE3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98A5-4CAE-4365-AAD9-CB01E83D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61DE-3963-4615-9870-86205FD4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4CA2-D6B0-4FD9-9ED6-340AD918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A378-E38F-43F7-8310-AF681D5E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6CBB-6EC9-42A5-88DC-1F87519D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4C0A-ECE9-4D6E-AEAB-F4C52C5B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86AE-F0FF-4BBF-B966-A0A7D367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269E-4744-4911-B3D9-5F1AC66F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2B64B-F25D-4EE0-B80C-09749EB8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52E79-7A8A-4256-B2A4-4E9838A1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82199-BC2E-46A1-9122-B407CE93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7F48D-F2D0-43A9-8B1D-1BA3D319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DCEB3-FAED-4ED4-9C4C-D1A3233A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810E-47CA-4D92-9317-00EA7B94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016A8-A661-4FAC-961D-A59A4F25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AC64D-B1E1-4A99-B1A1-ED35D94F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8BB59-AB2B-4A6F-BC00-D411A136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EE993-D852-4DCA-99D5-2A1FDA7E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A80D2-FBBC-45FC-9F51-E675480A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4A74F-C77A-4C7E-9723-BB00ABBC8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AF313-79DC-4CA2-ABC1-EB1C1EF8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4B616-F97C-4CF4-9A1B-FE7AE7988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C81AF-B539-4148-92A2-9368BAC7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77661-1CF6-4FF8-91BF-A9A80969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147F-00E9-4584-854E-71A5CD5A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05AB9-B450-4194-9928-88DCF8A3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1CA8B-74AD-4664-9B19-048CD02F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925C8-A4CE-4C72-825B-FFEB89B8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F63CB-3A8E-4B0D-A8E3-5FCC8C24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6C4E6-C9B4-4FA5-9330-3BD2EEED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2F04E-F85F-45EA-9D15-0FFC6578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FA2E3-5E6A-4C25-B49C-ED13E34E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50CDC-A101-4D47-BBD9-6E6F3C02D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781D3-0C63-4BB8-80B1-D5C12419D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D2CF0-62BC-498E-95D5-FCE759A22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D1E2-886B-4B7D-B1A1-CD56B159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C20AC-809E-4F8B-8552-E308509E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97113-2219-44D2-9B3A-D150E773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8DB84-F9A3-4FCD-81AF-28355593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EEDF6-72C5-4D4E-BBF9-DDB364A3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D1C2C-EFD0-46E2-B9FF-BA45B813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7AF73-EF07-47E0-A0E5-2B0B8C9B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84C2F-9F37-49EB-AD0F-EF635C73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9BDEB-45A5-4B91-973D-0CB0B74D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E335F-B9FE-4602-BB66-E05DE693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D90A8-9EAF-4ED4-959D-868DB04EE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1132-D3ED-4D73-A5DC-DFBED357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3047B-D9BC-401D-8A4D-0BE53FE94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DCC56-8879-4119-8781-31E225A04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882B6-978D-4D45-9536-79FD96B2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02305-ABDD-4CB1-9596-67CAC80D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4F676-F6E1-4AC1-83B7-13447264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C1921-CDCB-4555-BF54-5EDFA41B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159EC-BFC1-4B97-9C1A-85CF623D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A620F-B048-45B0-ACDE-97FD5D00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75E67-456D-4D86-9B7C-712C4049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78184-840C-4F9C-8EE2-2770DB6C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A5E2-C131-41D0-9201-019CF5C3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1BF23-BB8F-46CB-B012-912622B9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E2CBC-2D14-4A5A-AC79-51FBAAF0A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B3D44-F2F7-4D8A-AB3D-161C55F50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5954B-497F-4364-A7DC-17609052A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B3BD8-C718-4954-B296-05BF885A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9A6CA-7DC5-40F5-9922-B9EF7C16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82F7B-0EC4-4007-8DA8-C3E710E3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12EA4-4637-4F00-AE44-80A4C7F0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9CB6C-1CB6-4A0F-9D89-08EEC16C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176D5-8EFB-4351-AA88-E15356B4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BFAC-622C-471D-8FFA-152EA921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85290-A0F0-4A43-8088-E47DD50D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30984-1D76-49CD-97EE-15FAC6E4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663B4-730A-4E8F-B4B0-D2753BBF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6E201-ADF4-4914-A296-89DB54C3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A385C-249D-4504-AA0F-F6D80482A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E1247-76C6-4C30-AFDF-539A07DB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21491-89BC-4DF6-936C-26A95C1A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CF78B-E186-44F4-B981-32F5C541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F5859-C0CF-4D79-B55E-305DF1C5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F1A2B-9B73-420C-B2A6-774A3644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AEE6-19A0-4CD1-B403-6E432916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561EC-FAA0-4011-BCB1-3B85965E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E7BE3-B240-4569-A49E-EB4A3191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1B4E3-AE82-4CAC-9C85-CB2E6BC2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26F2B-5971-4DC8-92DE-37A49A98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8244C-59BE-4ECB-BEA6-5879D3C0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17A79-203F-4664-8B88-1E923F944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5C860-F94F-46D6-90FE-F99D33E6F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9013C2-405A-4D4C-99FF-80400B55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94CF7-0BED-45C7-9A8E-7180A147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AD855-902B-49E9-B4CF-91BDF032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CC42-F881-42C9-9614-61A71CCF428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38AC-0BDE-4CDA-8A42-1312EC691BF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E63D-42A0-41F9-BB66-BEC3E8E544C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C827-A3FC-4778-90CC-5F99AAD7D0C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43FF-8955-4281-8989-9E71BA3F62A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3362-0C47-43EE-8333-4FA12605DF3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3034-622C-4C24-9872-30B49A5B88C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1379-6BBD-4704-9F3A-C4A21564E19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CFFB-38A8-4B9A-B97F-CE8250218A6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Using your book and your prior knowledge of DNA, of the structure of DNA, what are some of the differences between DNA and RNA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NA Has ribose, not deoxyribos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ot double strande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ases in RNA includ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Uracil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denin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Guanin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ytosin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hich base in RNA binds to adenine in DNA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hich base in RNA binds to cytosine in DNA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hich base in RNA binds to thymine in DNA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hich base in RNA binds to guanine in DNA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nswers on white boar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9T18:03:22Z</dcterms:created>
  <dc:creator>LL4</dc:creator>
  <dc:description/>
  <dc:language>en-US</dc:language>
  <cp:lastModifiedBy>LL4</cp:lastModifiedBy>
  <dcterms:modified xsi:type="dcterms:W3CDTF">2009-12-19T18:48:51Z</dcterms:modified>
  <cp:revision>5</cp:revision>
  <dc:subject/>
  <dc:title>Slide 1</dc:title>
</cp:coreProperties>
</file>